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7711-0419-4767-880E-E03EBDA52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39D7-BB6C-4470-94AF-D0827D49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FAB3-B538-442B-B652-4D018E77C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694F-7100-42AE-B5B7-6EB43EAF6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D057-7EBB-402B-B0A4-6E781C10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7A17-3419-41E2-A830-7D12CA46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0C1D-1546-4296-9CB3-56A97D86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09F2-CE43-429B-BB85-047E468B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DE3E-6265-44DA-9D37-581BFB7C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4EA6-1976-410D-A5BC-4D37CE52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4E19-D268-4DD3-96D7-534BDE67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7158-4BCB-4ED9-BC99-93D43423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7E21-E928-43E6-8D48-4982513DB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63 Haleluja! Chváľme Pá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! Chváľme Pán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ďaku česť mu vzdávaj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pred jeho majestát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pokore sa skláňaj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lásky on k nám na zem prišie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ávu neba opusti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by svojou krvou drah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šu spásu vydoby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! Náš Pán žije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ho oblak od nás vz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me, že je stále s nam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nám sľub ten zanech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n, kto vierou Boha vzý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koj v duši môže ma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Duch Svätý bude stál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jeho srdci prebý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! Chlieb náš z neb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bou sa tu sýti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sme hriešni, predsa den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u blízkosť cíti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hovárať ráč sa za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ým sme, Pane, na zem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by sme raz mohli spieva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ieseň všetkých spasených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5T10:20:42Z</dcterms:modified>
  <cp:revision>31</cp:revision>
  <dc:subject/>
  <dc:title>Je veľký náš Pán, on slávy je Kráľ Nech do všetkých strán  spev vrúcnych znie chvál.</dc:title>
</cp:coreProperties>
</file>